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A85B-4142-4533-B9D2-67F49D3D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F95A-8639-4ED1-95FC-29215A83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40EB-2294-46FA-9FBF-50E363BE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483-84C3-4B5E-BE37-7FD6C51D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BB05-41AF-4A8A-91B0-E6DA5524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7DB6-4150-4468-8876-CBD33C3F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B829-8A9F-41D5-BC32-B646E65C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207-6723-48A1-8AAD-C08738A1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4665-5DCD-46F4-A7D4-EC50E318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264E-27DF-4EAF-9434-5DA97A9A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E154-A5FE-4D9C-A1DE-42EDFADC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AED-39CF-411A-A9AC-39D293DE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4015-EB71-4551-9268-3582FC982B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14720" y="1714680"/>
            <a:ext cx="4714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ok at the picture and describe the architecture using your own word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decorate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d the modern design and ancient ar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by famous archit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angzhou new air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670040"/>
            <a:ext cx="705672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55440"/>
            <a:ext cx="9144000" cy="69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4-09-06T14:59:47Z</dcterms:modified>
  <cp:revision>4</cp:revision>
  <dc:subject/>
  <dc:title>PowerPoint Presentation</dc:title>
</cp:coreProperties>
</file>